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CCD59-9246-4BBD-A17E-CA6A43964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66F7F-8928-4E6B-83C7-5596264A4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0061-2F47-48EC-AC4D-163DCD1BA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63C88-5649-420B-A392-4EC72A340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1ED75-2814-4382-8AA6-C1A1EB881C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37476-09FE-4C8A-80B5-24AC5E0F47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C0ABC-944B-4147-9A37-A985B3DCCC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5F529-370E-4282-A501-93DCB16478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2BAC9-A7CC-48B7-BF37-CA1AAEA1FB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D3FA7-A95E-4469-826C-CD0968CD5F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6AF9E-40A6-44E6-803A-6116291EED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D1A84-883B-415A-AD0C-69A8B0909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BDCB1-4AF4-4977-BFBF-CEC61068DB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6B52A-4F48-413C-8214-E4B39EAC8A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6E366-3ED1-45E1-AD49-1273E615F3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1F5BF-C01D-4478-87AD-3674FFB81E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63AB9-F895-41CF-B9AD-92B39569F0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96AD1-CA46-4250-AD97-6CAF688B9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F5BE-7D7C-41AD-8353-10E6BB465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C0BD-6846-4000-B420-7613E3803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5828-A2DD-44B7-ABA3-D1037AC91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C551-14CB-4DD6-9950-5176E4114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D440-FA86-4B22-9EEE-A8D3369DD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EFCA-F9AF-4A2D-8DB1-443E0F556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7241492-9A78-48AA-B676-7CDEEAE415E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8F1C87F-AA1F-43CD-B538-60111290EE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812FCC67-4143-41AD-8E2E-901BB4BC0621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21E51CE1-BCB8-49FE-A68D-1580E89BB032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4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1-09-15T12:48:28Z</dcterms:modified>
  <cp:revision>360</cp:revision>
  <dc:subject/>
  <dc:title>No Slide Title</dc:title>
</cp:coreProperties>
</file>